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75EA-55F2-4A1E-84DA-8B45D2C8C5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o you agree with all three premi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raditional societies democracy results in corruption and other problems – in “illiberal” democra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nization occurs through economic development, but it is not economic development as such that matters, but the attitudes, education, and moral values it int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what conditions is it possible for foreigners to actually help rather than hind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 recognizes these difficul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C20-2196-4745-B02A-1EC8BA16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682-7B56-4516-BC89-C60EF948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475-64AF-4DD8-A389-49033E5B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4DB-52B8-4148-B477-E2EB287A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124-A12C-4896-AFBC-7CECD060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ED7-5E9B-4392-9653-BFD803EE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713-92E3-457A-8889-704DDAFC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F4B-EFDB-4EEA-8FD7-6C5BD4C9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6F0-5894-4EB4-B923-4D33A385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E14-3723-4E63-AE1A-D4008D67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5D8-B07F-4389-BEAB-B92AAAC6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0E1-6E1B-4E52-AF47-B9A0640E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9D99-54EA-4DE1-9381-1A2312C66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2714400" cy="3333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ill and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9 Septem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erial government of “civilized” peo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, some colonies are ready for representative gover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hould have complete control over their internal affairs, through representativ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over foreig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27492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286240" y="3938760"/>
            <a:ext cx="2762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erial government of “civilized” peo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colonies want to go, they should be let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y may still benefit from being part of a larger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step towards universal pea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markets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ust be some compensation for the inequality in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is intervention justifi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emingly contradictory princi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determination of a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ention for the benefit of another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nciples apply to the two different categories of peo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is intervention justifi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se of “civilized” peoples, it is generally not justified, unless to right the effects of another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emocracy-promotion interventions: if a people is ready for democracy it will show it through rev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om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en is intervention justifi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the case of “barbarian” peoples, the implications are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arbarians generally do not constitute nations in the proper sense of the word: no right to self-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ecause they are uncivilized, barbarians cannot reciprocate (they are irrational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ivilized peoples cannot avoid having barbarian neighbours (Britain neighbours India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en is intervention justifi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f a civilized people finds it needs to protect its possessions, it may be forced to reduce its barbarian neighbours to powerles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ut then it is morally obligated to provide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d hence to prepare them for representative government (to civilize/develop/modernize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s in the domestic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 Lib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ll argues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adults should be able to do as they wish, without interference, so long as their actions do not directly harm others: this is the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ome people are not prepared to do this, e.g., children: they might harm themselves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rnalistic intervention is indicated, even required, in tho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overnment of foreig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ve government (modern democracy) is the best form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ome cultural preconditions necessary for it to be stable or to provide the benefits it 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some circumstanc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eig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help a country acquire those preconditions more quick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y ruling the country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ide: the modernization 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 is arguing for a version of what we now call the “modernization” 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kinds of societies, “traditional” and “moder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cracy is possible (or has real benefits in) only in modern rather than traditional soc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generally occurs through econom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tional) it is possible for “modern” societies to accelerate the modernization of “traditional” soc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chanisms of imperial government: How can foreigners actually help a country become ready for democra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ustification of imperial government: When is it right for foreigners to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barbarian” (undeveloped/traditional) people may be trapped in a low-level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articular form of government of its own will develop its character towards the kind of character that sustains representativ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chance good ruler could push it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civilized” (modern/developed) people, however, can provide the necessary expertise with reg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difficul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ers know little about th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o not know who to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feared and disliked by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rs are too powerful and trample the rights of the 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government of foreigners requir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gher-than-average degree of competence and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degree of insulation from the settler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hiev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vernment that functions as a meritocratic civil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vernment that is insulated from political pressures from the public of the imperial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s partiality to the settler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s ill-informed intervention by the public of the imperial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s this even pos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ost forms of imperial government in Mill’s time do not meet thes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1:59:56Z</dcterms:created>
  <dc:creator>Full Name</dc:creator>
  <dc:description/>
  <dc:language>en-US</dc:language>
  <cp:lastModifiedBy>Full Name</cp:lastModifiedBy>
  <dcterms:modified xsi:type="dcterms:W3CDTF">2008-09-18T20:52:59Z</dcterms:modified>
  <cp:revision>9</cp:revision>
  <dc:subject/>
  <dc:title>Mill and Empire</dc:title>
</cp:coreProperties>
</file>